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FF85-F6CC-4C10-A4B9-414BE6539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5588-345C-41B2-BAFB-0BFA79C8A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520B-713D-471C-AB96-F2A6A28BF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3047-F073-4B56-BAD9-1D083D001D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D68D-869B-4E7D-8C85-ACCADA8D77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C525-78DD-4A29-86C6-9C78C2AA2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0F5A-D8DC-4AB6-B514-C48FD4B36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C35F-D686-498E-AE79-06E8DFD08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327C-B201-45D8-BAF0-EF3C9C93D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5E53-D451-48A5-AA43-1DC6DC1E4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0F32-CD63-41AF-A97A-940355EB6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9B58-8ED7-42B5-B45C-7142AC78B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3CB3-9470-4309-8027-5636EAC4B97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D263-F1AD-49CE-9E40-D62F2BA934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860C-743F-429C-9A66-AFB4B82065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B546-5CF7-4244-B54A-F204FA1815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8786-5671-4CC4-9DAB-BFB84EAC30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4345-3C3B-4E94-A043-9712A5D421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56BD-4AE5-4D05-8868-475170BB6C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3CAB-6A0F-4E66-B026-306A487D5A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DF70-45D3-4BC1-952A-4A1A34B540C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44B8-39D7-48C8-A8AE-2440068559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291E-9391-4320-A25D-A7B8AB1D7A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8879-F729-4E52-8B61-5DF178BF18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9867-D3FD-4A07-9DA4-CAC2659F1B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35D5-43A7-4550-B7F8-C88A800D99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8814-C08E-48E0-8EAF-E4B96CCE04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793A-2743-4A3E-B0E3-DB5C14618E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A0BD-69E0-4D63-A3B2-7A1CFAB839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EC5C-09B2-4DB2-883D-357C54A6C2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9BA5-3747-4D3B-889F-E0596CB92E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E75D-68A7-45ED-8DB2-2DBCC4B91A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3545-8BC5-4370-936F-DB3D3F898C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2DC3-F447-48C2-B420-79AFA133B2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5699-3885-42D9-9A18-989EEA9416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9A79-D78D-4BAC-9185-895C7A16A93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69EB-0C0F-4043-9358-8B064F9534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3780-FFBF-466E-9301-8050699084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B3B2-4416-4E5C-ACA6-00736C7F50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FF3A-AA2C-43AA-891D-92CD97F31D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718D-7E9F-4EE1-A621-613B57C7CF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B7AE-F276-4292-90B3-49A886CD33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49E5-7D0E-4FEF-95E2-3B0D5E09C6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7EC7-BD50-4BF1-8AD3-EDA8697C71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3F91-9C6E-4E44-B5A1-0567822D944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376D-79E2-4198-8C0D-D8A59605C1B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00A4-032E-4649-AEE1-25F0394FCC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D0F5-9635-4E91-9543-C92E89652B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052A-5E74-439C-B9AF-713E3B0330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1703-CB77-4ECB-A22B-0155A25BE2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B641-D91E-4218-9266-C8572CFE9C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1D9A-8E5B-4913-8DA2-275173544F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0-17T01:07:11Z</dcterms:modified>
  <cp:revision>100</cp:revision>
  <dc:subject/>
  <dc:title>Slide 1</dc:title>
</cp:coreProperties>
</file>